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C560-05B7-43F1-B359-0CDA15C06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FBB4-52F1-4067-80E9-05E8F0FE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4052-A43B-49DC-9904-23FB13ECF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E19F-60E0-42EB-B6B8-DEC4762BD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4FDF-7A25-42B1-B12B-7998519E1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D569-4900-4A1E-8E3A-CBC7BCF5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6A2D-37E0-4CF3-9531-034F93F9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6751-7A33-4068-8B1F-7C914844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0DF9-E0A8-4E0E-914D-AC7A05C3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7918-E752-4C0C-8531-3F3E6294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BB2A-482B-4F27-B1A9-7C6C6962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D063-682A-4EAC-B7A2-49878924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CEA3-C016-42B5-AA1B-CA9DCBC8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AD86-02A4-415B-9169-EA792434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F5D1-B4E9-42F0-8067-712F5A33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9F3A-C544-4C71-A46F-434CE94BB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275C-DEE5-489F-B375-7B29A7E34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35709A-41BA-422E-891A-1706CA97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54788F-E151-44CC-BCE1-C7BC306D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FA4A85-C6F0-467E-8B78-F9D053D1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82461C-C3E6-4EFA-853E-2E5DC7EE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E3E785-17D9-44DB-99D1-84078BB5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9D11-F588-4511-A504-0CD6F809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4652BA-D5CC-45C8-A487-F3744554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06E9F0-DC3C-475E-8D6B-45A11F9F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30CC43-B2E6-4F0D-BFA5-B90A6C7E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2D9AFC-6854-478D-BD03-B1CD9A7A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CC9DAE-20B3-4C6B-AEA1-E1BF299A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BBDC40-FCA9-47D7-BA9D-8C6F8B1A6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1F5B13-EDF0-4E49-AF99-2C27393E9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6B82C-D500-46E7-9288-1DD5387CC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AA6AD-2944-4A24-9A9E-3A446A12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92345-9B12-4B6C-B44C-9B7BD4D0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75AA-D6AE-442A-BECD-251B7C38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EB4AF-E815-4131-9210-2F9E74E7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5D419-5B5D-49D8-A05D-43F02D36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8DD5A-C76B-4C10-B8D2-5F41F7F2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6DD77-35D9-4457-AEB1-19A75727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0655F-BC18-4F38-A278-BFEE71EA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96480-D942-421A-AA04-77A593FB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6DC4F-806C-4F49-82D3-E36EA697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1171E-4837-4406-8C7A-ACF090AF7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CFA38-6A8B-4A01-8920-610458024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2A2CE7-DA63-432E-B3C0-122185FF1F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CF19-5273-4021-B98B-F3466AE1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B53E6D-93A1-4275-A9AA-CB33D60B22D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321B34-D6AF-43ED-B54F-7BEFA798F50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8A3F51-1876-4A62-8705-8736555C059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EECA8F-94E8-4805-99CD-46233EB1816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4701B1-B312-46B6-8D09-04358764C5B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F41181-3E73-435D-B74D-CE28AD801E2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76C716-3DB4-4500-B0DC-D3DEA1856D3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76D1DC-414E-4DA7-8DE9-1F1DBF21B4A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8822BE-CF93-4F19-A6E3-1C9FE837BAB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72A8B1-5514-4864-9E1E-2749DD8AC3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F9A9-5F05-4145-B48B-1CADE761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94DA15-9A87-490F-B0C9-77667853F5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6B05-75E1-4A86-8485-05510EDE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C0E3-4CE2-4FD9-9D03-8EF1294E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B8F7-53FF-40F6-B269-3E30C788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3DD1-6A70-47FC-9A2F-129BA9986575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878F-B182-4191-BFDE-020F894FA7AD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7D57-F8D5-45DC-B20B-2E0CF0E515F8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D763-B831-4046-8F10-E3654C48F82A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9" descr="lww_wk_logo[1].gif"/>
          <p:cNvPicPr/>
          <p:nvPr/>
        </p:nvPicPr>
        <p:blipFill>
          <a:blip r:embed="rId2"/>
          <a:stretch/>
        </p:blipFill>
        <p:spPr>
          <a:xfrm>
            <a:off x="457200" y="6350040"/>
            <a:ext cx="2171880" cy="3585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ftr" idx="13"/>
          </p:nvPr>
        </p:nvSpPr>
        <p:spPr>
          <a:xfrm>
            <a:off x="2666880" y="6356520"/>
            <a:ext cx="563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38086"/>
                </a:solidFill>
                <a:latin typeface="Georgia"/>
              </a:rPr>
              <a:t>Copyright © 2009 Wolters Kluwer. Published by Lippincott Williams &amp; Wilkin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sldNum" idx="14"/>
          </p:nvPr>
        </p:nvSpPr>
        <p:spPr>
          <a:xfrm>
            <a:off x="8305920" y="6356520"/>
            <a:ext cx="380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9C3F-8798-4630-B2CF-9DA5FDB15751}" type="slidenum">
              <a:rPr b="0" lang="en-US" sz="9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journals.lww.com/academicmedicine/Fulltext/2003/01000/Assessing_Students__Performances_in_a.19.aspx" TargetMode="External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4"/>
          <p:cNvSpPr/>
          <p:nvPr/>
        </p:nvSpPr>
        <p:spPr>
          <a:xfrm>
            <a:off x="2202480" y="700200"/>
            <a:ext cx="43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24456"/>
                </a:solidFill>
                <a:latin typeface="Times New Roman"/>
              </a:rPr>
              <a:t>Факултет медицинских наука у Крагујев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24456"/>
                </a:solidFill>
                <a:latin typeface="Times New Roman"/>
              </a:rPr>
              <a:t>Интегрисане академске студије фарм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0"/>
            <a:ext cx="1042920" cy="140508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6"/>
          <p:cNvSpPr/>
          <p:nvPr/>
        </p:nvSpPr>
        <p:spPr>
          <a:xfrm>
            <a:off x="324000" y="1752480"/>
            <a:ext cx="8381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Times New Roman"/>
              </a:rPr>
              <a:t>МОДУЛ </a:t>
            </a:r>
            <a:r>
              <a:rPr b="1" lang="sr-CS" sz="2400" spc="-1" strike="noStrike">
                <a:solidFill>
                  <a:srgbClr val="424456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424456"/>
                </a:solidFill>
                <a:latin typeface="Times New Roman"/>
              </a:rPr>
              <a:t>: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424456"/>
                </a:solidFill>
                <a:latin typeface="Times New Roman"/>
              </a:rPr>
              <a:t>Посебни видови вештине комуник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1763640" y="3124080"/>
            <a:ext cx="56167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424456"/>
                </a:solidFill>
                <a:latin typeface="Times New Roman"/>
              </a:rPr>
              <a:t>11. наставна јединица (једанаеста недеља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imes New Roman"/>
              </a:rPr>
              <a:t>Вештина комуникације у репродуктивној медиц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4272840" y="5732640"/>
            <a:ext cx="26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424456"/>
                </a:solidFill>
                <a:latin typeface="Times New Roman"/>
              </a:rPr>
              <a:t>Доц. др Марија Шор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424456"/>
                </a:solidFill>
                <a:latin typeface="Trebuchet MS"/>
              </a:rPr>
              <a:t>Избор</a:t>
            </a:r>
            <a:r>
              <a:rPr b="0" lang="sr-Latn-CS" sz="32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0" lang="sr-CS" sz="3200" spc="-1" strike="noStrike">
                <a:solidFill>
                  <a:srgbClr val="424456"/>
                </a:solidFill>
                <a:latin typeface="Trebuchet MS"/>
              </a:rPr>
              <a:t>канала</a:t>
            </a:r>
            <a:r>
              <a:rPr b="0" lang="sr-Latn-CS" sz="32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0" lang="sr-CS" sz="3200" spc="-1" strike="noStrike">
                <a:solidFill>
                  <a:srgbClr val="424456"/>
                </a:solidFill>
                <a:latin typeface="Trebuchet MS"/>
              </a:rPr>
              <a:t>комуникације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826560" y="2249640"/>
            <a:ext cx="78598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директно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пренети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писмено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усмено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Лична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презентациј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Медиј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Интерне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Догађаји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манифестациј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33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24456"/>
                </a:solidFill>
                <a:latin typeface="Trebuchet MS"/>
              </a:rPr>
              <a:t>List 1</a:t>
            </a:r>
            <a:endParaRPr b="0" lang="en-US" sz="1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04" name="Picture Placeholder 1" descr="List 1"/>
          <p:cNvPicPr/>
          <p:nvPr/>
        </p:nvPicPr>
        <p:blipFill>
          <a:blip r:embed="rId1"/>
          <a:srcRect l="0" t="9142" r="0" b="9142"/>
          <a:stretch/>
        </p:blipFill>
        <p:spPr>
          <a:xfrm>
            <a:off x="457200" y="541440"/>
            <a:ext cx="5715000" cy="571500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48160" y="2438280"/>
            <a:ext cx="2438280" cy="381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List 1. The Nine Abilities Addressed in Brown Medical School's Competency-based Curriculum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Footer Placeholder 4"/>
          <p:cNvSpPr/>
          <p:nvPr/>
        </p:nvSpPr>
        <p:spPr>
          <a:xfrm>
            <a:off x="2666880" y="6356520"/>
            <a:ext cx="563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38086"/>
                </a:solidFill>
                <a:latin typeface="Georgia"/>
              </a:rPr>
              <a:t>Copyright © 2013 Academic Medicine. Published by Lippincott Williams &amp; Wilkin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5"/>
          <p:cNvSpPr/>
          <p:nvPr/>
        </p:nvSpPr>
        <p:spPr>
          <a:xfrm>
            <a:off x="8305920" y="6356520"/>
            <a:ext cx="38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5339-C3F1-4896-8519-FA5DB09A415D}" type="slidenum">
              <a:rPr b="0" lang="en-US" sz="9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48160" y="550440"/>
            <a:ext cx="2438280" cy="18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67afbd"/>
                </a:solidFill>
                <a:uFillTx/>
                <a:latin typeface="Georgia"/>
                <a:hlinkClick r:id="rId2"/>
              </a:rPr>
              <a:t>Assessing Students' Performances in a Competency-based Curriculum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Smith, Stephen R.; Dollase, Richard H.; Boss, Judith A.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Academic Medicine. 78(1):97-107, January 2003.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doi: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24456"/>
                </a:solidFill>
                <a:latin typeface="Trebuchet MS"/>
              </a:rPr>
              <a:t>Преглед у гинеколошкој амбуланти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48160" y="2438280"/>
            <a:ext cx="2438280" cy="381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8000"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Georgia"/>
              </a:rPr>
              <a:t>У гинеколошком прегледу  учествују максимално три особе: пацијент, лекар и медицинска сестра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Georgia"/>
              </a:rPr>
              <a:t>Разговор са пацијенткињом  и  упознавање са главним тегобама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Georgia"/>
              </a:rPr>
              <a:t>Омогућити пацијенткињи интимни простор да се припеми за преглед (огртач, папуче...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Georgia"/>
              </a:rPr>
              <a:t>Када се пацијенткиња смести на гинеколошки сто прилазимо да извршимо преглед (адекватни инструменти, одговарајуће осветљење, асистенција медицинске сестре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Georgia"/>
              </a:rPr>
              <a:t>Током прегледа који треба да је што краћи али и што информативнији  потребна је максимална озбиљност и посвећеност пацијенту...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48160" y="550440"/>
            <a:ext cx="2438280" cy="18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Georgia"/>
              </a:rPr>
              <a:t>Особености гинеколошког прегледа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icture Placeholder 2"/>
          <p:cNvSpPr/>
          <p:nvPr/>
        </p:nvSpPr>
        <p:spPr>
          <a:xfrm>
            <a:off x="468360" y="549360"/>
            <a:ext cx="5715000" cy="571500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2" descr="http://www.savjetnica.com/wp-content/uploads/2011/03/ginekoloska-ordinacija.jpg"/>
          <p:cNvPicPr/>
          <p:nvPr/>
        </p:nvPicPr>
        <p:blipFill>
          <a:blip r:embed="rId1"/>
          <a:srcRect l="23169" t="0" r="23169" b="0"/>
          <a:stretch/>
        </p:blipFill>
        <p:spPr>
          <a:xfrm>
            <a:off x="1476360" y="1341360"/>
            <a:ext cx="3816360" cy="424836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424456"/>
                </a:solidFill>
                <a:latin typeface="Trebuchet MS"/>
              </a:rPr>
              <a:t>Комуникација у гинекологији и акушерству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У гинеколошкој пракси поред широког знања лекар мора да поседује и интерперсоналне и комуникационе вештине како би промовисао сарадњу, отвореност и поверење између пацијента и лекар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Пацијенткињу треба сагледати као целокупно биће које нема само здравствени проблем већ могућ и психолошки, социјални или породични пробле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424456"/>
                </a:solidFill>
                <a:latin typeface="Trebuchet MS"/>
              </a:rPr>
              <a:t>Комуникација у гинекологији и акушерству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Georgia"/>
              </a:rPr>
              <a:t>Однос лекара и пацијента би требао бити отворен, искрен и пажљив те захтева стрпљење, посвећеност, праксу..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Georgia"/>
              </a:rPr>
              <a:t>Кључне вештине: емпатија, пажљиво слушање, експертско знање и рапор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Georgia"/>
              </a:rPr>
              <a:t>Поверење је од фундаменталног значаја: охрабрити пацијенткињу да искаже своја осећања, бриге и размишљање отворено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Georgia"/>
              </a:rPr>
              <a:t>Хипократова заклетва: све добијене информације од пацијента су поверљив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Georgia"/>
              </a:rPr>
              <a:t>Лекар не сме да осуђује, посебно у односу на питања која се односе на сексуалне односе, навике или сексуалну орјентацију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424456"/>
                </a:solidFill>
                <a:latin typeface="Trebuchet MS"/>
              </a:rPr>
              <a:t>Комуникација у гинекологији и акушерству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Пацијенти су данас захтевнији у смислу балансиране комуникације: подробна објашњења о њиховом здравственом стању и начину лечењ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Уколико пацијенткиња донекле учествује у доношењу одлуке о начину лечења и осети да је добила доста информација о њеном здравственом стању, исход лечења ће бити бољ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424456"/>
                </a:solidFill>
                <a:latin typeface="Arial"/>
              </a:rPr>
              <a:t>Вештине</a:t>
            </a:r>
            <a:r>
              <a:rPr b="0" lang="sr-Latn-CS" sz="36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424456"/>
                </a:solidFill>
                <a:latin typeface="Arial"/>
              </a:rPr>
              <a:t>интерперсоналне</a:t>
            </a:r>
            <a:r>
              <a:rPr b="0" lang="sr-Latn-CS" sz="36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424456"/>
                </a:solidFill>
                <a:latin typeface="Arial"/>
              </a:rPr>
              <a:t>комуникације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066320" y="2852280"/>
            <a:ext cx="7543800" cy="22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ешти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асн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овор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ешти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тивн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лушањ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424456"/>
                </a:solidFill>
                <a:latin typeface="Arial"/>
              </a:rPr>
              <a:t>Вештине</a:t>
            </a:r>
            <a:r>
              <a:rPr b="0" lang="sr-Latn-CS" sz="40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424456"/>
                </a:solidFill>
                <a:latin typeface="Arial"/>
              </a:rPr>
              <a:t>јасног</a:t>
            </a:r>
            <a:r>
              <a:rPr b="0" lang="sr-Latn-CS" sz="40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424456"/>
                </a:solidFill>
                <a:latin typeface="Arial"/>
              </a:rPr>
              <a:t>гово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249192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нај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т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ели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жет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ристи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ч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маоц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зумљив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чениц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реба да буду кратк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ст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склади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ч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овор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л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лагоди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муникацион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ил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говорни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424456"/>
                </a:solidFill>
                <a:latin typeface="Arial"/>
              </a:rPr>
              <a:t>Вештине</a:t>
            </a:r>
            <a:r>
              <a:rPr b="0" lang="sr-Latn-CS" sz="40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424456"/>
                </a:solidFill>
                <a:latin typeface="Arial"/>
              </a:rPr>
              <a:t>активног</a:t>
            </a:r>
            <a:r>
              <a:rPr b="0" lang="sr-Latn-CS" sz="40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424456"/>
                </a:solidFill>
                <a:latin typeface="Arial"/>
              </a:rPr>
              <a:t>слушањ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826560" y="1980720"/>
            <a:ext cx="7783560" cy="39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ткриј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мер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говорни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ати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овор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ислите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но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елите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жете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к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аш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говорник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овори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нцентришите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лушање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лушај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кажи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лушат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ристи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хник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тивн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луша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бјашње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дстица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арафразира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мирањ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424456"/>
                </a:solidFill>
                <a:latin typeface="Arial"/>
              </a:rPr>
              <a:t>Невербално</a:t>
            </a:r>
            <a:r>
              <a:rPr b="0" lang="sr-Latn-CS" sz="40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424456"/>
                </a:solidFill>
                <a:latin typeface="Arial"/>
              </a:rPr>
              <a:t>комуницирањ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вербал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муницира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ар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ербалн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а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његов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учава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чел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сниј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65%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90%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муника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в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вербалн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ивоу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вербалн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овор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е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ут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ач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тицај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ербалног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424456"/>
                </a:solidFill>
                <a:latin typeface="Arial"/>
              </a:rPr>
              <a:t>Невербално</a:t>
            </a:r>
            <a:r>
              <a:rPr b="0" lang="sr-Latn-CS" sz="36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424456"/>
                </a:solidFill>
                <a:latin typeface="Arial"/>
              </a:rPr>
              <a:t>комуницирање</a:t>
            </a:r>
            <a:br>
              <a:rPr sz="3600"/>
            </a:br>
            <a:r>
              <a:rPr b="0" lang="sr-Latn-CS" sz="2500" spc="-1" strike="noStrike">
                <a:solidFill>
                  <a:srgbClr val="424456"/>
                </a:solidFill>
                <a:latin typeface="Arial"/>
              </a:rPr>
              <a:t>(</a:t>
            </a:r>
            <a:r>
              <a:rPr b="0" lang="en-US" sz="2500" spc="-1" strike="noStrike">
                <a:solidFill>
                  <a:srgbClr val="424456"/>
                </a:solidFill>
                <a:latin typeface="Arial"/>
              </a:rPr>
              <a:t>Gerry Wilson</a:t>
            </a:r>
            <a:r>
              <a:rPr b="0" lang="sr-Latn-CS" sz="2500" spc="-1" strike="noStrike">
                <a:solidFill>
                  <a:srgbClr val="424456"/>
                </a:solidFill>
                <a:latin typeface="Arial"/>
              </a:rPr>
              <a:t>)</a:t>
            </a:r>
            <a:r>
              <a:rPr b="0" lang="en-GB" sz="3600" spc="-1" strike="noStrike">
                <a:solidFill>
                  <a:srgbClr val="42445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2060640"/>
            <a:ext cx="8362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Arial"/>
              </a:rPr>
              <a:t>ПАРАЛИНГВИСТИЧКИ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кључу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окализаци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ауз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овору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Arial"/>
              </a:rPr>
              <a:t>ГОВОР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држ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ацијал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кре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атич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раз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диза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бр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творе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луотворе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ч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ире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оздр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ложа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сан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Arial"/>
              </a:rPr>
              <a:t>ГОВОР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сто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ног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зличит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кре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Arial"/>
              </a:rPr>
              <a:t>ГОВОР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Arial"/>
              </a:rPr>
              <a:t>ОЧИ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мат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јбогатији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л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вербалн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овор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24456"/>
                </a:solidFill>
                <a:latin typeface="Arial"/>
              </a:rPr>
              <a:t>10 </a:t>
            </a:r>
            <a:r>
              <a:rPr b="0" lang="sr-CS" sz="3200" spc="-1" strike="noStrike">
                <a:solidFill>
                  <a:srgbClr val="424456"/>
                </a:solidFill>
                <a:latin typeface="Arial"/>
              </a:rPr>
              <a:t>АСПЕКАТА</a:t>
            </a:r>
            <a:r>
              <a:rPr b="0" lang="sr-Latn-CS" sz="32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424456"/>
                </a:solidFill>
                <a:latin typeface="Arial"/>
              </a:rPr>
              <a:t>НЕВЕРБАЛНЕ</a:t>
            </a:r>
            <a:r>
              <a:rPr b="0" lang="sr-Latn-CS" sz="32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424456"/>
                </a:solidFill>
                <a:latin typeface="Arial"/>
              </a:rPr>
              <a:t>КОМУНИКАЦИЈЕ</a:t>
            </a:r>
            <a:r>
              <a:rPr b="0" lang="sr-Latn-CS" sz="3200" spc="-1" strike="noStrike">
                <a:solidFill>
                  <a:srgbClr val="424456"/>
                </a:solidFill>
                <a:latin typeface="Arial"/>
              </a:rPr>
              <a:t> </a:t>
            </a:r>
            <a:br>
              <a:rPr sz="3200"/>
            </a:br>
            <a:r>
              <a:rPr b="0" lang="sr-Latn-CS" sz="2900" spc="-1" strike="noStrike">
                <a:solidFill>
                  <a:srgbClr val="424456"/>
                </a:solidFill>
                <a:latin typeface="Arial"/>
              </a:rPr>
              <a:t>(</a:t>
            </a:r>
            <a:r>
              <a:rPr b="0" lang="sr-CS" sz="2900" spc="-1" strike="noStrike">
                <a:solidFill>
                  <a:srgbClr val="424456"/>
                </a:solidFill>
                <a:latin typeface="Arial"/>
              </a:rPr>
              <a:t>Тијана</a:t>
            </a:r>
            <a:r>
              <a:rPr b="0" lang="sr-Latn-CS" sz="29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2900" spc="-1" strike="noStrike">
                <a:solidFill>
                  <a:srgbClr val="424456"/>
                </a:solidFill>
                <a:latin typeface="Arial"/>
              </a:rPr>
              <a:t>Мандић</a:t>
            </a:r>
            <a:r>
              <a:rPr b="0" lang="sr-Latn-CS" sz="2900" spc="-1" strike="noStrike">
                <a:solidFill>
                  <a:srgbClr val="424456"/>
                </a:solidFill>
                <a:latin typeface="Arial"/>
              </a:rPr>
              <a:t>)</a:t>
            </a:r>
            <a:endParaRPr b="0" lang="en-US" sz="29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755640" y="2133720"/>
            <a:ext cx="8013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ВОКАЛ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МУНИКАЦИЈ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ФАЦИЈАЛ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МУНИКАЦИЈ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ГЕСТОВ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МУНИКАЦИЈ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ПОСТУРАЛ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МУНИКАЦИЈ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КОМУНИКАЦ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ИТМО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СПАЦИЈАЛ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МУНИКАЦИЈ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ПРОКСЕМИЧ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МУНИКАЦИЈ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КОМУНИКАЦ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КРЕТО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КОМУНИКАЦ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ЕЋО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ЛИКОВ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МУНИКАЦИЈ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9152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424456"/>
                </a:solidFill>
                <a:latin typeface="Arial"/>
              </a:rPr>
              <a:t>Невербална</a:t>
            </a:r>
            <a:r>
              <a:rPr b="0" lang="sr-Latn-CS" sz="40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424456"/>
                </a:solidFill>
                <a:latin typeface="Arial"/>
              </a:rPr>
              <a:t>комуникација</a:t>
            </a:r>
            <a:r>
              <a:rPr b="0" lang="sr-Latn-CS" sz="4000" spc="-1" strike="noStrike">
                <a:solidFill>
                  <a:srgbClr val="424456"/>
                </a:solidFill>
                <a:latin typeface="Arial"/>
              </a:rPr>
              <a:t>: </a:t>
            </a:r>
            <a:br>
              <a:rPr sz="4000"/>
            </a:br>
            <a:r>
              <a:rPr b="0" lang="sr-CS" sz="4000" spc="-1" strike="noStrike">
                <a:solidFill>
                  <a:srgbClr val="424456"/>
                </a:solidFill>
                <a:latin typeface="Arial"/>
              </a:rPr>
              <a:t>разлике</a:t>
            </a:r>
            <a:r>
              <a:rPr b="0" lang="sr-Latn-CS" sz="40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424456"/>
                </a:solidFill>
                <a:latin typeface="Arial"/>
              </a:rPr>
              <a:t>између</a:t>
            </a:r>
            <a:r>
              <a:rPr b="0" lang="sr-Latn-CS" sz="40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424456"/>
                </a:solidFill>
                <a:latin typeface="Arial"/>
              </a:rPr>
              <a:t>кул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6" name="Picture 3" descr="Grimasa1in"/>
          <p:cNvPicPr/>
          <p:nvPr/>
        </p:nvPicPr>
        <p:blipFill>
          <a:blip r:embed="rId1"/>
          <a:stretch/>
        </p:blipFill>
        <p:spPr>
          <a:xfrm>
            <a:off x="1619280" y="2232000"/>
            <a:ext cx="583236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Oval 2"/>
          <p:cNvSpPr/>
          <p:nvPr/>
        </p:nvSpPr>
        <p:spPr>
          <a:xfrm>
            <a:off x="1187280" y="1981080"/>
            <a:ext cx="7270920" cy="4648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1676520" y="2362320"/>
            <a:ext cx="5333760" cy="37335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1752480" y="2666880"/>
            <a:ext cx="3810240" cy="259092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5"/>
          <p:cNvSpPr/>
          <p:nvPr/>
        </p:nvSpPr>
        <p:spPr>
          <a:xfrm>
            <a:off x="1905120" y="2895480"/>
            <a:ext cx="2133360" cy="1752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6" descr="PE01000_"/>
          <p:cNvPicPr/>
          <p:nvPr/>
        </p:nvPicPr>
        <p:blipFill>
          <a:blip r:embed="rId1"/>
          <a:stretch/>
        </p:blipFill>
        <p:spPr>
          <a:xfrm>
            <a:off x="1547640" y="476280"/>
            <a:ext cx="1387800" cy="319248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7"/>
          <p:cNvSpPr/>
          <p:nvPr/>
        </p:nvSpPr>
        <p:spPr>
          <a:xfrm>
            <a:off x="2268360" y="3733920"/>
            <a:ext cx="15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1,5 m </a:t>
            </a:r>
            <a:r>
              <a:rPr b="1" lang="sr-CS" sz="2400" spc="-1" strike="noStrike">
                <a:solidFill>
                  <a:srgbClr val="000099"/>
                </a:solidFill>
                <a:latin typeface="Times New Roman"/>
              </a:rPr>
              <a:t>интим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>
            <a:off x="2743200" y="358128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9"/>
          <p:cNvSpPr/>
          <p:nvPr/>
        </p:nvSpPr>
        <p:spPr>
          <a:xfrm>
            <a:off x="2743200" y="3581280"/>
            <a:ext cx="2743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3809880" y="358128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1,5-2,5 m </a:t>
            </a:r>
            <a:r>
              <a:rPr b="1" lang="sr-CS" sz="2400" spc="-1" strike="noStrike">
                <a:solidFill>
                  <a:srgbClr val="000099"/>
                </a:solidFill>
                <a:latin typeface="Times New Roman"/>
              </a:rPr>
              <a:t>лична</a:t>
            </a: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sr-CS" sz="2400" spc="-1" strike="noStrike">
                <a:solidFill>
                  <a:srgbClr val="000099"/>
                </a:solidFill>
                <a:latin typeface="Times New Roman"/>
              </a:rPr>
              <a:t>персон</a:t>
            </a: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CS" sz="2400" spc="-1" strike="noStrike">
                <a:solidFill>
                  <a:srgbClr val="000099"/>
                </a:solidFill>
                <a:latin typeface="Times New Roman"/>
              </a:rPr>
              <a:t>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1"/>
          <p:cNvSpPr/>
          <p:nvPr/>
        </p:nvSpPr>
        <p:spPr>
          <a:xfrm flipV="1">
            <a:off x="2819520" y="3276720"/>
            <a:ext cx="3809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5486400" y="342900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2,5-3 m </a:t>
            </a:r>
            <a:r>
              <a:rPr b="1" lang="sr-CS" sz="2400" spc="-1" strike="noStrike">
                <a:solidFill>
                  <a:srgbClr val="000099"/>
                </a:solidFill>
                <a:latin typeface="Times New Roman"/>
              </a:rPr>
              <a:t>социјалн</a:t>
            </a: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a-</a:t>
            </a:r>
            <a:r>
              <a:rPr b="1" lang="sr-CS" sz="2400" spc="-1" strike="noStrike">
                <a:solidFill>
                  <a:srgbClr val="000099"/>
                </a:solidFill>
                <a:latin typeface="Times New Roman"/>
              </a:rPr>
              <a:t>посл</a:t>
            </a: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o</a:t>
            </a:r>
            <a:r>
              <a:rPr b="1" lang="sr-CS" sz="2400" spc="-1" strike="noStrike">
                <a:solidFill>
                  <a:srgbClr val="000099"/>
                </a:solidFill>
                <a:latin typeface="Times New Roman"/>
              </a:rPr>
              <a:t>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3"/>
          <p:cNvSpPr/>
          <p:nvPr/>
        </p:nvSpPr>
        <p:spPr>
          <a:xfrm flipV="1">
            <a:off x="2819520" y="2666880"/>
            <a:ext cx="4724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4"/>
          <p:cNvSpPr/>
          <p:nvPr/>
        </p:nvSpPr>
        <p:spPr>
          <a:xfrm>
            <a:off x="7162920" y="3429000"/>
            <a:ext cx="9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е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5 m </a:t>
            </a:r>
            <a:r>
              <a:rPr b="1" lang="sr-CS" sz="2400" spc="-1" strike="noStrike">
                <a:solidFill>
                  <a:srgbClr val="000099"/>
                </a:solidFill>
                <a:latin typeface="Times New Roman"/>
              </a:rPr>
              <a:t>јавн</a:t>
            </a: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5"/>
          <p:cNvSpPr/>
          <p:nvPr/>
        </p:nvSpPr>
        <p:spPr>
          <a:xfrm>
            <a:off x="3419640" y="476280"/>
            <a:ext cx="5040000" cy="1008000"/>
          </a:xfrm>
          <a:prstGeom prst="roundRect">
            <a:avLst>
              <a:gd name="adj" fmla="val 16667"/>
            </a:avLst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66"/>
                </a:solidFill>
                <a:latin typeface="Comic Sans MS"/>
              </a:rPr>
              <a:t>Зоне</a:t>
            </a:r>
            <a:r>
              <a:rPr b="1" lang="sr-Latn-CS" sz="24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cc0066"/>
                </a:solidFill>
                <a:latin typeface="Comic Sans MS"/>
              </a:rPr>
              <a:t>комуникације</a:t>
            </a:r>
            <a:r>
              <a:rPr b="1" lang="sr-Latn-CS" sz="24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cc0066"/>
                </a:solidFill>
                <a:latin typeface="Comic Sans MS"/>
              </a:rPr>
              <a:t>једне</a:t>
            </a:r>
            <a:r>
              <a:rPr b="1" lang="sr-Latn-CS" sz="24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cc0066"/>
                </a:solidFill>
                <a:latin typeface="Comic Sans MS"/>
              </a:rPr>
              <a:t>осо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7:10:51Z</dcterms:created>
  <dc:creator>Sorak</dc:creator>
  <dc:description/>
  <dc:language>en-US</dc:language>
  <cp:lastModifiedBy>Milanče Sin</cp:lastModifiedBy>
  <dcterms:modified xsi:type="dcterms:W3CDTF">2023-02-04T20:12:26Z</dcterms:modified>
  <cp:revision>19</cp:revision>
  <dc:subject/>
  <dc:title>Вештине комуникације</dc:title>
</cp:coreProperties>
</file>